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975-8C62-4C32-9891-C0891D60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FAF-FBAE-4A1A-85C3-3B908648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70F-D9D9-4A3B-B759-D875C5E8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C5C-CC6B-4C1B-8E6F-DB75BC2A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477-DC74-4EF4-A93E-66DE4E56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C9F-D378-49EE-8BCC-145A58F8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643-2A11-404A-8093-5B40D078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129-6DEF-4E04-88DD-1FF09781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43F-9EEC-432A-9137-740ED0DC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317-02C1-48DA-AED1-FDEA5F2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807-4BD8-4FE7-8FCE-F386A97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DC2-47A5-4267-89DD-15AE803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6A2F-FC44-4FE5-A6AE-06C06E820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ubd_logo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32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Group 30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Group 15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Rectangle 4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14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Group 17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Rectangle 5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9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Group 8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Rectangle 6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Rectangle 7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Rectangle 18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Group 21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Rectangle 9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Rectangle 20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Group 23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Rectangle 10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Rectangle 22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Group 25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Rectangle 11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24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Group 27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Rectangle 12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26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Group 29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Rectangle 13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8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Rectangle 31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Ben</cp:lastModifiedBy>
  <cp:lastPrinted>2003-04-02T20:43:05Z</cp:lastPrinted>
  <dcterms:modified xsi:type="dcterms:W3CDTF">2011-01-25T01:21:02Z</dcterms:modified>
  <cp:revision>2</cp:revision>
  <dc:subject/>
  <dc:title>Curriculum Design</dc:title>
</cp:coreProperties>
</file>